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drumroll.wav" ContentType="audio/x-wav"/>
  <Override PartName="/ppt/media/image9.png" ContentType="image/pn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B388-32BF-4825-A587-3306CD471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860B-ACE8-4241-8FE9-7DB1889AB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7FA988-D7B0-451E-80BD-5C0ED7862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BBE11D-626C-4763-8E36-3003FB94D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3F5DCF-7BCD-4009-9510-3532DA8B5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CF3BF3-F01F-4A60-BABF-33DE46E50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3713F5-C3B1-45C9-9F5C-CB2A41C26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AD281C-5B31-4985-910D-B30D30AC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89B3FB-5095-4E14-B6E7-9873E63AA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65C505-1A7C-4F97-B62C-719623F3F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58884D-DB1D-4A70-8BF6-A373B9B05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B81E8F-ACDE-4692-87BD-014F545C4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56A3-01E9-4D3A-8654-FF8F63533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D9ED7A-AE3E-4B82-8BAE-200032A8B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9E6384-C370-40E1-ABAE-BEB7FFEED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59FC0B-4262-4C49-829E-09B619181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4AF450-3196-431C-B4DC-D71263B3C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05543A-1F3A-48ED-B09B-AB2407AB0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A9A928-487C-4AF0-974D-1C0BB83B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3ACE96-3322-4E3F-8D5C-F913DA48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A71394-5DE1-4EFA-BF29-609E0ACE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79C242-749E-4BE5-B3AF-DCA8245D3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CB99CF-AFF1-43A8-9C7D-A3E2CCD84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59FD-2FE1-405B-BFC9-1A2BDBBB1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B3D05C-8855-4F6E-A856-3732445A4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375EE0-31EE-43EB-AD7B-032B9EF85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D15D6F-0B56-4DCA-986B-BDA961287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05AAB1-EDDD-4B33-B6A1-50623B444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245D43-5C2A-4039-A790-6B25A27F7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9EDE2C-8223-4549-80F1-C30F4AE04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6AD894-5C69-4184-86CB-DE124F21A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F58BA3-7DCB-4BCE-A7DF-0976B9B7A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10F13F-015D-4C01-8B35-6D0654A2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D48A8D-46E1-4293-A6B5-B9CCE0F4F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CD152-5C1E-4033-BB8D-CF47CAA7D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C4EDE5-3672-4608-8434-A24706B8C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BA533D-332D-42EE-9931-7D1BC9234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B0030B-6143-483B-9BF2-9DC472318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6FEE15-C90E-4532-8E97-E308BF792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517C3B-AB27-4B50-8A59-55065AB88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C3C306-7051-4060-BFC0-2F0AF051F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9DA0F2-EF9C-4128-987B-D3E0DC60B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A9BF1F-E9CA-4C9C-BEB0-F7D02F019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ECE424-4243-4B57-9625-5CF261383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F4F372-9608-4C26-8609-D6ED04A0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AF9D0-A367-4933-92D9-A0D855A8A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5C4429-25F3-4F01-892E-1304EFB5F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36115C-AB72-4D58-8334-A07A543B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28580D-1BA5-4C2E-AD85-6561B50E2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19307E-8B30-4E2E-B797-7F47D2484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238E48-3C70-4D7E-88A0-ADDD78695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9C45F4-F1C8-4096-BB9B-693F6905A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6475BF-F6D4-44A3-B73E-50557E92D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C2A6CD-172E-4701-B190-7ADD1C6C0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97A49C-F920-4812-B1A0-0AEA3B70B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F8F916-DAEB-4DBE-86BB-2888F65DB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988F3-7ED3-48FF-9FEF-D2B7CB174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AC60A5-0FD3-4F5A-8FDE-E2C397ABE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17B21E-8B6F-42F6-BEFE-C2E780FE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7C4290-936E-45EE-90C3-5AFD9E66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4D0CCE-D907-4313-97BD-7B350AD30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CBD5EA-8142-435C-8208-8C54D6425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6CD785-DCF5-4DA3-B02D-81024CD00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7802F4-B4E6-4680-A908-D960AC099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4E0550-8288-4A8C-8EB0-F6692078D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8F3D90-9D47-4373-94BB-2BA93C222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D50383-AFDD-48AE-9A6D-682A8CF02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8B1BC-1ECF-4B2F-9B23-B04925D80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88D50C-74B0-44D6-A64C-657F2FE86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979487-E177-4EB0-8F48-98F5F9A97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028DC4-D34B-4A82-965C-A37592C0D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E3FC4F-02C6-4735-9390-9AB25081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C0348D-09E8-437C-AB3C-E56A688C9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C8F141-9D6D-4889-A281-0FCA22FA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246063-1D83-456F-B9CB-9502BAC0C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CC485A-0CF7-4468-8DC3-A9F171B8A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499FBB-7760-46AE-A95F-13076499B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2EF49-BF86-4C96-9FE8-4BEFEF591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DB0C0-1EC9-4886-BE8B-334BEFE53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CC3B6-3D1B-40C1-A8B7-F9CCB5CB8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F943-C496-4CC4-BAF7-58D296EDE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0D76C-BC01-4EB9-8838-B1F414CA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9A38E-ABCA-4736-A850-9BA2B342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1677B-7079-47DD-B237-4B5377147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4D94D-700B-4F41-828D-85E52149C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84307-BF65-4941-8D8D-76968CAC8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93102-3794-4641-8691-F2EE8B785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D0432-FE40-4809-9A50-E2F1BDEEA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D60D4-DCD0-4D9C-AE03-A39B5F0D5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A4E69-7012-4C23-AB61-8F19A533C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17A5E-DA16-4ACB-82FB-23890BD63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C1F0-0264-4E59-B685-E694D5E9E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AEF9C-8FF9-4850-9AB2-59106D5E4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BD5C7-E888-401C-A9D1-F3A27ED1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BA028-D264-4A3C-B014-01BF7B56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01B07-BC79-48C5-8717-450E6358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8CD7F-5E8F-40D9-9967-379CC48FB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7E283-8041-447E-9960-39CC20C58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EC4A2-7F5E-450D-A0A7-DCFE417E3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DCA21-40D2-42A4-96F6-B4DCBB9B5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FCD97-BB4B-4196-905A-3A5326B99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482B6-C033-4715-8AA0-39F208B36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58A5-3007-4DA8-B7B9-4E930FE45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C8893-AC6C-4093-B4D9-6D38A1EFA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BD0DA-6584-4D29-8C74-88389BE40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BD512-5A3C-4BD2-930A-6720E4F3E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179D4-2CA9-469C-8519-2A3C78494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E484B-0A71-47AE-8110-EC35DB90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FB0D7-13E1-4620-93D2-10976F205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91D49-AF30-4E17-B9F3-FD92E8668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68454-743B-40CE-B312-C801F23D9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92438-BBE4-46FC-9819-14C80F04C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623EC-69CA-4BF1-BD6B-FB47CDB46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BB9A-BBEB-4314-AF7D-A18F03222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F1F0B2-CC21-4257-9947-10A921430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70AE5-C768-41B3-AE5B-EF3A52DC9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729E6E-DA60-4BEA-88D1-AC5A211E3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81C28-409B-43D5-B960-3FDABDFC5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34E42-9A1D-4D05-B595-AFE3FA4D8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5ED9B8-821C-4759-87A4-56F089B3A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41453-FBF8-49DA-B34D-28072871A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56C933-CD07-4737-A543-11893D14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D30171-4E56-48A5-848C-7E9801F8A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6DEE8-9844-4C47-B569-D5C9B9D0B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38C9-3A79-4F33-8897-8BEA6953E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7203B-6DA1-4AD0-8BE3-2D17A8A7D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261357-A0D2-4265-A006-50F826B0F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0F9A1A-345F-48FF-A64E-E78AAD8E7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5A458-EBC0-4399-8E8E-3AE66FD23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E6CAC8-64E5-4DD9-9D46-B6BD9D698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D1240E-C34C-4C76-8707-F087DA9CC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AD8DB1-29BD-4D76-A164-5EC9B6ACD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7F2693-8FC1-4FA7-83F8-1E0C16BF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4DF0CB-A34B-47FB-8D77-AAE8891D3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637916-7602-47EF-AD2F-CD6B8454B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A57E-551B-44DA-8E62-0A8B31D61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253F6F-72D7-44C7-8B8C-509BE482F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A7AAED-EA0F-4B57-888E-CBC749AB7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2965E4-52CA-4DA2-8D3A-1CB08D0CB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6BF18E-993B-4031-9636-D72D66196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3CED87-6CB1-4C9A-BE55-3731ED3CE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B57CA9-0028-452D-AE06-801B1B5C2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0EF4E8-4F0C-481E-8EF5-CCCC15C76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60A1AD-760A-4FD0-B3FE-3ABF08A49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93F112-D8AA-468E-96FC-5028D8202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BD4227-847C-4176-AE60-0559CA2DE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9B93-F7DE-430F-9026-24051FBD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A4753-3758-4E05-9649-455591C27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DB3EC2-2EAC-4978-815B-B275B641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B615AF-53D5-453D-B237-11E997AED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6E9A78-CE6A-4A1F-91A5-FD3DA7362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C6CBCE-3789-4303-9FF1-37D1DAC8A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1D6AE31-25A9-4C00-87A6-094E9C0B4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9C40FD-0CD6-40E1-9FF8-1F53FA803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C7179AE-E957-4A30-9D71-FBFC37A60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18C30D-23DD-4905-B6B4-4AA332E15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2DF55B4-F44D-41D0-A4F6-710B88BA8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8933-4784-4A92-BE14-E6E110CAC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3F54A52-2AE2-457F-B282-F39BBE358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3C39C9D-EE3C-4333-B715-B25FCE335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BEA1BF-95B7-455F-ADF9-3D3A837D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E27CF2-61DC-4BF5-9ED9-1BF3F2B5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54F4ABB-ACDB-4A33-83C6-DFC377559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2209ED-34BF-43AE-B7A9-D428EFC37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51F6FFF-3B38-4C10-8BC9-F53B45240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B052A4-ACB2-4BB0-96D6-92C600955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D91069-1A5F-49C2-8374-E9E9EDBC7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0CB7A1-DFB3-42A4-ABFF-FB06D3299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2D225-F2EB-4AB0-8248-1FEBFB32B8A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2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3AF2A-C1FF-45CE-8DD7-078D25B5CC5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7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568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39265-93B8-4BA5-922E-7CF53F37B52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1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612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4" name="PlaceHolder 1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3C3DA-5D90-4545-A624-9F33CF3EA9F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655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91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692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8AEEB-6649-4D27-9BAD-CB0EC8E2528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5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736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72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773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CD308-CBC6-4DB2-B875-9B8A0A39135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35281-8490-45A2-9E73-9C7B5C91F4D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CEF9D-A5CD-43D7-8E59-7BD2CAEB84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F9077-92E2-4A46-BED8-1B36A40BB3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237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9C3AB-8164-40D8-AC12-3F08C92A038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294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CA791-C2D4-4834-B9F1-5D1C0F05478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50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354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356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1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63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A1968-E215-4A2F-BFE2-C2C186F6E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11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15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16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417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2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42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80CED-141A-430E-A2BA-AD7BBE2A6B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7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D7E82-88F4-4D4A-BAC1-3B73A3CA3B9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838080" y="2209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The</a:t>
            </a:r>
            <a:r>
              <a:rPr b="0" i="1" lang="en-US" sz="5400" spc="-1" strike="noStrike">
                <a:solidFill>
                  <a:srgbClr val="ccecff"/>
                </a:solidFill>
                <a:latin typeface="Arial"/>
              </a:rPr>
              <a:t> Land 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is Always Tougher In Russia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subTitle"/>
          </p:nvPr>
        </p:nvSpPr>
        <p:spPr>
          <a:xfrm>
            <a:off x="1371600" y="3887640"/>
            <a:ext cx="6400800" cy="17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Verdana"/>
              </a:rPr>
              <a:t>By, Alexander Cox &amp; Anthony L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17" name="" descr=""/>
          <p:cNvPicPr/>
          <p:nvPr/>
        </p:nvPicPr>
        <p:blipFill>
          <a:blip r:embed="rId1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drumroll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4745" fill="hold"/>
                                        <p:tgtEl>
                                          <p:spTgt spid="8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Introduction: Problems and Solutions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blem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ld Climate: Very cold climat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auses rivers to freeze and permafrost t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or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ing Of Fire: a large ring of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volcanoes on the Kamchatka  Peninsul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ermafrost : a frost that forms i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winter months and stay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ermanently till Summer preventing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rchitecture and min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0" name=""/>
          <p:cNvSpPr txBox="1"/>
          <p:nvPr/>
        </p:nvSpPr>
        <p:spPr>
          <a:xfrm>
            <a:off x="539424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olu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ce Break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pecific architecture (pilings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21" name="Picture 6" descr="http://ts3.mm.bing.net/images/thumbnail.aspx?q=333383410654&amp;id=29c8f3b948c2b7254918f2c4622045b1&amp;index=ch1"/>
          <p:cNvPicPr/>
          <p:nvPr/>
        </p:nvPicPr>
        <p:blipFill>
          <a:blip r:embed="rId2"/>
          <a:srcRect l="0" t="0" r="-1323" b="9800"/>
          <a:stretch/>
        </p:blipFill>
        <p:spPr>
          <a:xfrm>
            <a:off x="5791320" y="2286000"/>
            <a:ext cx="2895480" cy="1752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8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8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8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8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8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8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8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8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8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Landforms Of Russi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subTitle"/>
          </p:nvPr>
        </p:nvSpPr>
        <p:spPr>
          <a:xfrm>
            <a:off x="1251000" y="3909960"/>
            <a:ext cx="664200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ap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6" name="Picture 10" descr="physical-ng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648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Landforms: Mountains, Plateaus &amp; Plains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2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ral Mountains: The mountain rage that is the border of Asia &amp; Europe. Elevation:1000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ucasus Mountains: The mountain range separating Russia and South East Asia. Mt. Elbrus: 5642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th European Plains: The Large plain west of the Ural Mounta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9" name="" descr=""/>
          <p:cNvPicPr/>
          <p:nvPr/>
        </p:nvPicPr>
        <p:blipFill>
          <a:blip r:embed="rId1"/>
          <a:stretch/>
        </p:blipFill>
        <p:spPr>
          <a:xfrm>
            <a:off x="8686800" y="152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30" name="" descr=""/>
          <p:cNvPicPr/>
          <p:nvPr/>
        </p:nvPicPr>
        <p:blipFill>
          <a:blip r:embed="rId2"/>
          <a:stretch/>
        </p:blipFill>
        <p:spPr>
          <a:xfrm>
            <a:off x="8305920" y="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53615" fill="hold"/>
                                        <p:tgtEl>
                                          <p:spTgt spid="8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3615"/>
                            </p:stCondLst>
                            <p:childTnLst>
                              <p:par>
                                <p:cTn id="1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121046" fill="hold"/>
                                        <p:tgtEl>
                                          <p:spTgt spid="8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Land Forms: Mountains, Plateaus &amp; Plains Continued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st Siberian Plain: The large plain just West of the Central Siberian Peninsu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ntral Siberian Plateau: a huge plateau in the center of Russ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few other mountain ranges in Russia ar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yan Mts., Yablonovyy Range, Stanovoy Range, Verkhoyansk Range, &amp; Kolyma Ran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nd Forms: Bodies of Wa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Kolyma River             Lake Baikal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b Riv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Yenisey Riv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Volga Riv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on Riv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rtysh Riv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ena Riv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mur Riv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ral River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5" name="" descr=""/>
          <p:cNvPicPr/>
          <p:nvPr/>
        </p:nvPicPr>
        <p:blipFill>
          <a:blip r:embed="rId2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36" name="" descr=""/>
          <p:cNvPicPr/>
          <p:nvPr/>
        </p:nvPicPr>
        <p:blipFill>
          <a:blip r:embed="rId3"/>
          <a:stretch/>
        </p:blipFill>
        <p:spPr>
          <a:xfrm>
            <a:off x="3429000" y="2286000"/>
            <a:ext cx="2514600" cy="1887480"/>
          </a:xfrm>
          <a:prstGeom prst="rect">
            <a:avLst/>
          </a:prstGeom>
          <a:ln w="0">
            <a:noFill/>
          </a:ln>
        </p:spPr>
      </p:pic>
      <p:pic>
        <p:nvPicPr>
          <p:cNvPr id="837" name="" descr=""/>
          <p:cNvPicPr/>
          <p:nvPr/>
        </p:nvPicPr>
        <p:blipFill>
          <a:blip r:embed="rId4"/>
          <a:stretch/>
        </p:blipFill>
        <p:spPr>
          <a:xfrm>
            <a:off x="6019920" y="2286000"/>
            <a:ext cx="295596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" dur="41309" fill="hold"/>
                                        <p:tgtEl>
                                          <p:spTgt spid="8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3:56:42Z</dcterms:created>
  <dc:creator>Alex</dc:creator>
  <dc:description/>
  <dc:language>en-US</dc:language>
  <cp:lastModifiedBy> </cp:lastModifiedBy>
  <dcterms:modified xsi:type="dcterms:W3CDTF">2010-12-20T14:16:00Z</dcterms:modified>
  <cp:revision>14</cp:revision>
  <dc:subject/>
  <dc:title>The Land is Always Tougher In Russia</dc:title>
</cp:coreProperties>
</file>